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8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6.gif" ContentType="image/gi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5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53.png" ContentType="image/png"/>
  <Override PartName="/ppt/media/image6.png" ContentType="image/png"/>
  <Override PartName="/ppt/media/image10.wmf" ContentType="image/x-wmf"/>
  <Override PartName="/ppt/media/image47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15.wmf" ContentType="image/x-wmf"/>
  <Override PartName="/ppt/media/image32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CA7B-8F7E-4C5B-8924-3A90556260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985C-C30B-40CE-B15A-C8CA828A06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5DFE-F694-4FAD-BA0D-56E7DDA8563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0B7-0D4E-423F-B2A0-883AB47E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E50-1509-4D3A-ACAA-9FD9BACF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C1D-A4EA-4512-B730-E6734BEB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001-4C80-4E6C-A3CC-5C6F2033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726-67E7-4874-9242-EBB02C82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3571-0852-4711-87B1-EA29F3BA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016-F0A6-46DD-A6A6-F16DAFED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DF76-2AC7-4762-B761-B9E0C9E6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C37-77D3-457B-847D-1323699E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5D5-A56E-4897-B664-2C119F6D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3A1-4AF3-46A4-9F56-95FF4980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517-7BC0-4F52-8FE3-3C8C3E21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FD1B-E24E-492B-B9EA-50A1172079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7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8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39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0.wmf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4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7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8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2.wm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3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1.2.3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无穷小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8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9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9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5" name="Object 6"/>
          <p:cNvGraphicFramePr/>
          <p:nvPr/>
        </p:nvGraphicFramePr>
        <p:xfrm>
          <a:off x="1539720" y="2133720"/>
          <a:ext cx="7604280" cy="2598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39720" y="2133720"/>
                    <a:ext cx="7604280" cy="25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45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0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0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圆角矩形 1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0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1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1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45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2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2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8" name="Object 3"/>
          <p:cNvGraphicFramePr/>
          <p:nvPr/>
        </p:nvGraphicFramePr>
        <p:xfrm>
          <a:off x="755640" y="1123920"/>
          <a:ext cx="863640" cy="44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1123920"/>
                    <a:ext cx="8636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组合 42"/>
          <p:cNvGrpSpPr/>
          <p:nvPr/>
        </p:nvGrpSpPr>
        <p:grpSpPr>
          <a:xfrm>
            <a:off x="611280" y="1700280"/>
            <a:ext cx="7899480" cy="741240"/>
            <a:chOff x="611280" y="1700280"/>
            <a:chExt cx="7899480" cy="741240"/>
          </a:xfrm>
        </p:grpSpPr>
        <p:sp>
          <p:nvSpPr>
            <p:cNvPr id="331" name="TextBox 13"/>
            <p:cNvSpPr/>
            <p:nvPr/>
          </p:nvSpPr>
          <p:spPr>
            <a:xfrm>
              <a:off x="3081600" y="18860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组合 41"/>
            <p:cNvGrpSpPr/>
            <p:nvPr/>
          </p:nvGrpSpPr>
          <p:grpSpPr>
            <a:xfrm>
              <a:off x="611280" y="1700280"/>
              <a:ext cx="7899480" cy="741240"/>
              <a:chOff x="611280" y="1700280"/>
              <a:chExt cx="7899480" cy="741240"/>
            </a:xfrm>
          </p:grpSpPr>
          <p:sp>
            <p:nvSpPr>
              <p:cNvPr id="333" name="TextBox 1"/>
              <p:cNvSpPr/>
              <p:nvPr/>
            </p:nvSpPr>
            <p:spPr>
              <a:xfrm>
                <a:off x="611280" y="1778040"/>
                <a:ext cx="204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定理：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34" name="Object 12"/>
              <p:cNvGraphicFramePr/>
              <p:nvPr/>
            </p:nvGraphicFramePr>
            <p:xfrm>
              <a:off x="2222280" y="1837800"/>
              <a:ext cx="868320" cy="4032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35" name="Object 12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222280" y="1837800"/>
                        <a:ext cx="868320" cy="403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6" name="Object 13"/>
              <p:cNvGraphicFramePr/>
              <p:nvPr/>
            </p:nvGraphicFramePr>
            <p:xfrm>
              <a:off x="3214440" y="1853640"/>
              <a:ext cx="769680" cy="40320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337" name="Object 1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214440" y="1853640"/>
                        <a:ext cx="769680" cy="403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8" name="Object 14"/>
              <p:cNvGraphicFramePr/>
              <p:nvPr/>
            </p:nvGraphicFramePr>
            <p:xfrm>
              <a:off x="4040280" y="1700280"/>
              <a:ext cx="2281320" cy="71928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39" name="Object 14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4040280" y="1700280"/>
                        <a:ext cx="2281320" cy="71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0" name="TextBox 22"/>
              <p:cNvSpPr/>
              <p:nvPr/>
            </p:nvSpPr>
            <p:spPr>
              <a:xfrm>
                <a:off x="6304680" y="1886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41" name="Object 15"/>
              <p:cNvGraphicFramePr/>
              <p:nvPr/>
            </p:nvGraphicFramePr>
            <p:xfrm>
              <a:off x="6732720" y="1765080"/>
              <a:ext cx="1778040" cy="67644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342" name="Object 15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6732720" y="1765080"/>
                        <a:ext cx="1778040" cy="676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343" name="TextBox 25"/>
          <p:cNvSpPr/>
          <p:nvPr/>
        </p:nvSpPr>
        <p:spPr>
          <a:xfrm>
            <a:off x="1297080" y="24098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定理在求不定式的极限时，可用等价无穷小替换，而不会改变原不定式的极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6"/>
          <p:cNvSpPr/>
          <p:nvPr/>
        </p:nvSpPr>
        <p:spPr>
          <a:xfrm>
            <a:off x="1116000" y="3500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用的等价无穷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16"/>
          <p:cNvGraphicFramePr/>
          <p:nvPr/>
        </p:nvGraphicFramePr>
        <p:xfrm>
          <a:off x="1271520" y="4397400"/>
          <a:ext cx="801720" cy="350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46" name="Object 1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71520" y="4397400"/>
                    <a:ext cx="80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Box 29"/>
          <p:cNvSpPr/>
          <p:nvPr/>
        </p:nvSpPr>
        <p:spPr>
          <a:xfrm>
            <a:off x="2192400" y="4330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17"/>
          <p:cNvGraphicFramePr/>
          <p:nvPr/>
        </p:nvGraphicFramePr>
        <p:xfrm>
          <a:off x="2790720" y="4410000"/>
          <a:ext cx="1833840" cy="363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49" name="Object 1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790720" y="4410000"/>
                    <a:ext cx="183384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8"/>
          <p:cNvGraphicFramePr/>
          <p:nvPr/>
        </p:nvGraphicFramePr>
        <p:xfrm>
          <a:off x="4948200" y="4280040"/>
          <a:ext cx="3141720" cy="733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51" name="Object 18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48200" y="4280040"/>
                    <a:ext cx="31417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19"/>
          <p:cNvGraphicFramePr/>
          <p:nvPr/>
        </p:nvGraphicFramePr>
        <p:xfrm>
          <a:off x="1449360" y="4978440"/>
          <a:ext cx="3807000" cy="4572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53" name="Object 19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449360" y="4978440"/>
                    <a:ext cx="3807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圆角矩形 34"/>
          <p:cNvSpPr/>
          <p:nvPr/>
        </p:nvSpPr>
        <p:spPr>
          <a:xfrm>
            <a:off x="376200" y="360360"/>
            <a:ext cx="8353440" cy="611964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5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5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6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6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45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7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7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Box 26"/>
          <p:cNvSpPr/>
          <p:nvPr/>
        </p:nvSpPr>
        <p:spPr>
          <a:xfrm>
            <a:off x="684360" y="1125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用的等价无穷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7"/>
          <p:cNvGraphicFramePr/>
          <p:nvPr/>
        </p:nvGraphicFramePr>
        <p:xfrm>
          <a:off x="900000" y="1989000"/>
          <a:ext cx="801720" cy="35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1989000"/>
                    <a:ext cx="80172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TextBox 29"/>
          <p:cNvSpPr/>
          <p:nvPr/>
        </p:nvSpPr>
        <p:spPr>
          <a:xfrm>
            <a:off x="1987560" y="191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8"/>
          <p:cNvGraphicFramePr/>
          <p:nvPr/>
        </p:nvGraphicFramePr>
        <p:xfrm>
          <a:off x="2556000" y="1989000"/>
          <a:ext cx="1833480" cy="363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1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6000" y="1989000"/>
                    <a:ext cx="18334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9"/>
          <p:cNvGraphicFramePr/>
          <p:nvPr/>
        </p:nvGraphicFramePr>
        <p:xfrm>
          <a:off x="4572000" y="1844640"/>
          <a:ext cx="3141720" cy="733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3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0" y="1844640"/>
                    <a:ext cx="31417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0"/>
          <p:cNvGraphicFramePr/>
          <p:nvPr/>
        </p:nvGraphicFramePr>
        <p:xfrm>
          <a:off x="826920" y="2492280"/>
          <a:ext cx="3807000" cy="457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5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26920" y="2492280"/>
                    <a:ext cx="3807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TextBox 1"/>
          <p:cNvSpPr/>
          <p:nvPr/>
        </p:nvSpPr>
        <p:spPr>
          <a:xfrm>
            <a:off x="988920" y="3094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1469520" y="3868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因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11"/>
          <p:cNvGraphicFramePr/>
          <p:nvPr/>
        </p:nvGraphicFramePr>
        <p:xfrm>
          <a:off x="2759040" y="3919680"/>
          <a:ext cx="909720" cy="404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9" name="Object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59040" y="3919680"/>
                    <a:ext cx="9097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TextBox 8"/>
          <p:cNvSpPr/>
          <p:nvPr/>
        </p:nvSpPr>
        <p:spPr>
          <a:xfrm>
            <a:off x="3899160" y="3868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12"/>
          <p:cNvGraphicFramePr/>
          <p:nvPr/>
        </p:nvGraphicFramePr>
        <p:xfrm>
          <a:off x="4386240" y="3917880"/>
          <a:ext cx="2701800" cy="424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92" name="Object 1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86240" y="3917880"/>
                    <a:ext cx="270180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TextBox 10"/>
          <p:cNvSpPr/>
          <p:nvPr/>
        </p:nvSpPr>
        <p:spPr>
          <a:xfrm>
            <a:off x="2203200" y="4554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13"/>
          <p:cNvGraphicFramePr/>
          <p:nvPr/>
        </p:nvGraphicFramePr>
        <p:xfrm>
          <a:off x="2987640" y="4508640"/>
          <a:ext cx="3827520" cy="865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95" name="Object 1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987640" y="4508640"/>
                    <a:ext cx="382752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13"/>
          <p:cNvGraphicFramePr/>
          <p:nvPr/>
        </p:nvGraphicFramePr>
        <p:xfrm>
          <a:off x="3444840" y="3068640"/>
          <a:ext cx="1758960" cy="865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97" name="Object 1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444840" y="3068640"/>
                    <a:ext cx="17589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圆角矩形 34"/>
          <p:cNvSpPr/>
          <p:nvPr/>
        </p:nvSpPr>
        <p:spPr>
          <a:xfrm>
            <a:off x="376200" y="360360"/>
            <a:ext cx="8353440" cy="611964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0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0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0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0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5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1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1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Box 26"/>
          <p:cNvSpPr/>
          <p:nvPr/>
        </p:nvSpPr>
        <p:spPr>
          <a:xfrm>
            <a:off x="684360" y="1125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用的等价无穷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"/>
          <p:cNvGraphicFramePr/>
          <p:nvPr/>
        </p:nvGraphicFramePr>
        <p:xfrm>
          <a:off x="900000" y="1989000"/>
          <a:ext cx="801720" cy="35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1989000"/>
                    <a:ext cx="80172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TextBox 29"/>
          <p:cNvSpPr/>
          <p:nvPr/>
        </p:nvSpPr>
        <p:spPr>
          <a:xfrm>
            <a:off x="1987560" y="191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Object 3"/>
          <p:cNvGraphicFramePr/>
          <p:nvPr/>
        </p:nvGraphicFramePr>
        <p:xfrm>
          <a:off x="2556000" y="1989000"/>
          <a:ext cx="1833480" cy="363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5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6000" y="1989000"/>
                    <a:ext cx="18334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4"/>
          <p:cNvGraphicFramePr/>
          <p:nvPr/>
        </p:nvGraphicFramePr>
        <p:xfrm>
          <a:off x="4572000" y="1844640"/>
          <a:ext cx="3141720" cy="733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0" y="1844640"/>
                    <a:ext cx="31417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5"/>
          <p:cNvGraphicFramePr/>
          <p:nvPr/>
        </p:nvGraphicFramePr>
        <p:xfrm>
          <a:off x="826920" y="2492280"/>
          <a:ext cx="3807000" cy="457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9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26920" y="2492280"/>
                    <a:ext cx="3807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TextBox 1"/>
          <p:cNvSpPr/>
          <p:nvPr/>
        </p:nvSpPr>
        <p:spPr>
          <a:xfrm>
            <a:off x="988920" y="3094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9"/>
          <p:cNvGraphicFramePr/>
          <p:nvPr/>
        </p:nvGraphicFramePr>
        <p:xfrm>
          <a:off x="2144880" y="3075120"/>
          <a:ext cx="1444320" cy="741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2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44880" y="3075120"/>
                    <a:ext cx="14443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TextBox 30"/>
          <p:cNvSpPr/>
          <p:nvPr/>
        </p:nvSpPr>
        <p:spPr>
          <a:xfrm>
            <a:off x="1490040" y="3805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因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Object 10"/>
          <p:cNvGraphicFramePr/>
          <p:nvPr/>
        </p:nvGraphicFramePr>
        <p:xfrm>
          <a:off x="2849400" y="3879720"/>
          <a:ext cx="816120" cy="352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5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49400" y="3879720"/>
                    <a:ext cx="8161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TextBox 32"/>
          <p:cNvSpPr/>
          <p:nvPr/>
        </p:nvSpPr>
        <p:spPr>
          <a:xfrm>
            <a:off x="3880080" y="3805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Object 11"/>
          <p:cNvGraphicFramePr/>
          <p:nvPr/>
        </p:nvGraphicFramePr>
        <p:xfrm>
          <a:off x="4290840" y="3789360"/>
          <a:ext cx="3165480" cy="538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8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290840" y="3789360"/>
                    <a:ext cx="31654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TextBox 34"/>
          <p:cNvSpPr/>
          <p:nvPr/>
        </p:nvSpPr>
        <p:spPr>
          <a:xfrm>
            <a:off x="1760400" y="4552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12"/>
          <p:cNvGraphicFramePr/>
          <p:nvPr/>
        </p:nvGraphicFramePr>
        <p:xfrm>
          <a:off x="2590920" y="4352760"/>
          <a:ext cx="3524040" cy="876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1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590920" y="4352760"/>
                    <a:ext cx="352404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圆角矩形 29"/>
          <p:cNvSpPr/>
          <p:nvPr/>
        </p:nvSpPr>
        <p:spPr>
          <a:xfrm>
            <a:off x="376200" y="360360"/>
            <a:ext cx="8353440" cy="611964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4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4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5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5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45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5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6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26"/>
          <p:cNvSpPr/>
          <p:nvPr/>
        </p:nvSpPr>
        <p:spPr>
          <a:xfrm>
            <a:off x="611280" y="692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补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547640" y="72180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穷大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1863720" y="1294920"/>
            <a:ext cx="30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自变量的某个变化过程中，函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312840" y="322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10"/>
          <p:cNvGraphicFramePr/>
          <p:nvPr/>
        </p:nvGraphicFramePr>
        <p:xfrm>
          <a:off x="5796000" y="1341360"/>
          <a:ext cx="685800" cy="43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9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6000" y="1341360"/>
                    <a:ext cx="6858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Rectangle 8"/>
          <p:cNvSpPr/>
          <p:nvPr/>
        </p:nvSpPr>
        <p:spPr>
          <a:xfrm>
            <a:off x="6770880" y="1341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绝对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312840" y="31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11"/>
          <p:cNvGraphicFramePr/>
          <p:nvPr/>
        </p:nvGraphicFramePr>
        <p:xfrm>
          <a:off x="693720" y="1798560"/>
          <a:ext cx="914400" cy="617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93720" y="1798560"/>
                    <a:ext cx="91440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11"/>
          <p:cNvSpPr/>
          <p:nvPr/>
        </p:nvSpPr>
        <p:spPr>
          <a:xfrm>
            <a:off x="1897560" y="182844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限增大，则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3"/>
          <p:cNvSpPr/>
          <p:nvPr/>
        </p:nvSpPr>
        <p:spPr>
          <a:xfrm>
            <a:off x="312840" y="322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Object 12"/>
          <p:cNvGraphicFramePr/>
          <p:nvPr/>
        </p:nvGraphicFramePr>
        <p:xfrm>
          <a:off x="3708360" y="1844640"/>
          <a:ext cx="76212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7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08360" y="1844640"/>
                    <a:ext cx="762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14"/>
          <p:cNvSpPr/>
          <p:nvPr/>
        </p:nvSpPr>
        <p:spPr>
          <a:xfrm>
            <a:off x="5238360" y="184572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这个变化过程中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穷大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6"/>
          <p:cNvSpPr/>
          <p:nvPr/>
        </p:nvSpPr>
        <p:spPr>
          <a:xfrm>
            <a:off x="3128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Object 13"/>
          <p:cNvGraphicFramePr/>
          <p:nvPr/>
        </p:nvGraphicFramePr>
        <p:xfrm>
          <a:off x="755640" y="2421000"/>
          <a:ext cx="7924680" cy="666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1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5640" y="2421000"/>
                    <a:ext cx="7924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Rectangle 17"/>
          <p:cNvSpPr/>
          <p:nvPr/>
        </p:nvSpPr>
        <p:spPr>
          <a:xfrm>
            <a:off x="1921680" y="3073320"/>
            <a:ext cx="4670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无穷大量是绝对值无限大的变量，任何绝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值很大的常数都不是无穷大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1"/>
          <p:cNvSpPr/>
          <p:nvPr/>
        </p:nvSpPr>
        <p:spPr>
          <a:xfrm>
            <a:off x="31284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5"/>
          <p:cNvSpPr/>
          <p:nvPr/>
        </p:nvSpPr>
        <p:spPr>
          <a:xfrm>
            <a:off x="31284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"/>
          <p:cNvSpPr/>
          <p:nvPr/>
        </p:nvSpPr>
        <p:spPr>
          <a:xfrm>
            <a:off x="755640" y="42210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无穷大量和无穷小量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900000" y="479736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理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相同的变化过程中，无穷大量的倒数是无穷小量，恒不等于零的无穷小量的倒数是无穷大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8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9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9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51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0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0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0" name="Object 6"/>
          <p:cNvGraphicFramePr/>
          <p:nvPr/>
        </p:nvGraphicFramePr>
        <p:xfrm>
          <a:off x="468360" y="2205000"/>
          <a:ext cx="8021520" cy="237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1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205000"/>
                    <a:ext cx="80215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引    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1065240" y="1341360"/>
          <a:ext cx="7107120" cy="394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5240" y="1341360"/>
                    <a:ext cx="710712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圆角矩形 1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引    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7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900000" y="1268280"/>
          <a:ext cx="976320" cy="50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1268280"/>
                    <a:ext cx="976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4"/>
          <p:cNvGraphicFramePr/>
          <p:nvPr/>
        </p:nvGraphicFramePr>
        <p:xfrm>
          <a:off x="2268360" y="1484280"/>
          <a:ext cx="2772000" cy="977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1484280"/>
                    <a:ext cx="27720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5"/>
          <p:cNvGraphicFramePr/>
          <p:nvPr/>
        </p:nvGraphicFramePr>
        <p:xfrm>
          <a:off x="2268360" y="2492280"/>
          <a:ext cx="2803680" cy="536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68360" y="2492280"/>
                    <a:ext cx="280368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6"/>
          <p:cNvGraphicFramePr/>
          <p:nvPr/>
        </p:nvGraphicFramePr>
        <p:xfrm>
          <a:off x="2340000" y="3213000"/>
          <a:ext cx="308592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40000" y="3213000"/>
                    <a:ext cx="30859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7"/>
          <p:cNvGraphicFramePr/>
          <p:nvPr/>
        </p:nvGraphicFramePr>
        <p:xfrm>
          <a:off x="2411280" y="4005360"/>
          <a:ext cx="2710080" cy="50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11280" y="4005360"/>
                    <a:ext cx="2710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1403280" y="4869000"/>
          <a:ext cx="3718080" cy="504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403280" y="4869000"/>
                    <a:ext cx="3718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" name="Object 4"/>
          <p:cNvGraphicFramePr/>
          <p:nvPr/>
        </p:nvGraphicFramePr>
        <p:xfrm>
          <a:off x="1300320" y="981000"/>
          <a:ext cx="6672240" cy="2102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00320" y="981000"/>
                    <a:ext cx="667224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1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" name="Object 30"/>
          <p:cNvGraphicFramePr/>
          <p:nvPr/>
        </p:nvGraphicFramePr>
        <p:xfrm>
          <a:off x="971640" y="2637000"/>
          <a:ext cx="7138800" cy="3562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32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2637000"/>
                    <a:ext cx="713880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1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5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Object 4"/>
          <p:cNvGraphicFramePr/>
          <p:nvPr/>
        </p:nvGraphicFramePr>
        <p:xfrm>
          <a:off x="826920" y="1052640"/>
          <a:ext cx="865440" cy="44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052640"/>
                    <a:ext cx="8654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826920" y="1557360"/>
          <a:ext cx="2065680" cy="446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1557360"/>
                    <a:ext cx="20656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5"/>
          <p:cNvSpPr/>
          <p:nvPr/>
        </p:nvSpPr>
        <p:spPr>
          <a:xfrm>
            <a:off x="3465360" y="21250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有限个无穷小的和（差）仍是无穷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918080" y="2810880"/>
            <a:ext cx="41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性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无穷小与有界变量的乘积仍是无穷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731240" y="3434760"/>
            <a:ext cx="35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数与无穷小的乘积是无穷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731240" y="4120560"/>
            <a:ext cx="35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限个无穷小的乘积是无穷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6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6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7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7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1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7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8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6"/>
          <p:cNvSpPr/>
          <p:nvPr/>
        </p:nvSpPr>
        <p:spPr>
          <a:xfrm>
            <a:off x="1774440" y="1198080"/>
            <a:ext cx="41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性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无穷小与有界变量的乘积仍是无穷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"/>
          <p:cNvGrpSpPr/>
          <p:nvPr/>
        </p:nvGrpSpPr>
        <p:grpSpPr>
          <a:xfrm>
            <a:off x="1001880" y="1844640"/>
            <a:ext cx="5562360" cy="857160"/>
            <a:chOff x="1001880" y="1844640"/>
            <a:chExt cx="5562360" cy="857160"/>
          </a:xfrm>
        </p:grpSpPr>
        <p:sp>
          <p:nvSpPr>
            <p:cNvPr id="187" name="TextBox 6"/>
            <p:cNvSpPr/>
            <p:nvPr/>
          </p:nvSpPr>
          <p:spPr>
            <a:xfrm>
              <a:off x="1001880" y="201852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8" name="Object 4"/>
            <p:cNvGraphicFramePr/>
            <p:nvPr/>
          </p:nvGraphicFramePr>
          <p:xfrm>
            <a:off x="2267280" y="1844640"/>
            <a:ext cx="1605600" cy="857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9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67280" y="1844640"/>
                      <a:ext cx="160560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0" name="Group 11"/>
          <p:cNvGrpSpPr/>
          <p:nvPr/>
        </p:nvGrpSpPr>
        <p:grpSpPr>
          <a:xfrm>
            <a:off x="1501200" y="4437000"/>
            <a:ext cx="3794760" cy="857160"/>
            <a:chOff x="1501200" y="4437000"/>
            <a:chExt cx="3794760" cy="857160"/>
          </a:xfrm>
        </p:grpSpPr>
        <p:graphicFrame>
          <p:nvGraphicFramePr>
            <p:cNvPr id="191" name="Object 5"/>
            <p:cNvGraphicFramePr/>
            <p:nvPr/>
          </p:nvGraphicFramePr>
          <p:xfrm>
            <a:off x="3187440" y="4437000"/>
            <a:ext cx="2108520" cy="857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2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87440" y="4437000"/>
                      <a:ext cx="210852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TextBox 219145"/>
            <p:cNvSpPr/>
            <p:nvPr/>
          </p:nvSpPr>
          <p:spPr>
            <a:xfrm>
              <a:off x="1501200" y="4604040"/>
              <a:ext cx="14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由性质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得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4" name="Object 6"/>
          <p:cNvGraphicFramePr/>
          <p:nvPr/>
        </p:nvGraphicFramePr>
        <p:xfrm>
          <a:off x="1030320" y="2828880"/>
          <a:ext cx="6629400" cy="1523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30320" y="2828880"/>
                    <a:ext cx="66294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"/>
          <p:cNvGraphicFramePr/>
          <p:nvPr/>
        </p:nvGraphicFramePr>
        <p:xfrm>
          <a:off x="1042920" y="5229360"/>
          <a:ext cx="893880" cy="452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5229360"/>
                    <a:ext cx="8938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8"/>
          <p:cNvGraphicFramePr/>
          <p:nvPr/>
        </p:nvGraphicFramePr>
        <p:xfrm>
          <a:off x="2465280" y="5229360"/>
          <a:ext cx="1716120" cy="857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9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65280" y="5229360"/>
                    <a:ext cx="17161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9"/>
          <p:cNvGraphicFramePr/>
          <p:nvPr/>
        </p:nvGraphicFramePr>
        <p:xfrm>
          <a:off x="5416560" y="5229360"/>
          <a:ext cx="1244520" cy="857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1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416560" y="5229360"/>
                    <a:ext cx="1244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0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5" name="Object 4"/>
          <p:cNvGraphicFramePr/>
          <p:nvPr/>
        </p:nvGraphicFramePr>
        <p:xfrm>
          <a:off x="1011240" y="1122480"/>
          <a:ext cx="6929280" cy="2422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1240" y="1122480"/>
                    <a:ext cx="692928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52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2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2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观察分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30" descr=""/>
          <p:cNvPicPr/>
          <p:nvPr/>
        </p:nvPicPr>
        <p:blipFill>
          <a:blip r:embed="rId8"/>
          <a:srcRect l="76748" t="32819" r="0" b="2786"/>
          <a:stretch/>
        </p:blipFill>
        <p:spPr>
          <a:xfrm>
            <a:off x="3083040" y="2565360"/>
            <a:ext cx="2977920" cy="295128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20"/>
          <p:cNvGrpSpPr/>
          <p:nvPr/>
        </p:nvGrpSpPr>
        <p:grpSpPr>
          <a:xfrm>
            <a:off x="6156360" y="5300640"/>
            <a:ext cx="1906920" cy="714240"/>
            <a:chOff x="6156360" y="5300640"/>
            <a:chExt cx="1906920" cy="714240"/>
          </a:xfrm>
        </p:grpSpPr>
        <p:pic>
          <p:nvPicPr>
            <p:cNvPr id="228" name="Picture 33" descr="00066"/>
            <p:cNvPicPr/>
            <p:nvPr/>
          </p:nvPicPr>
          <p:blipFill>
            <a:blip r:embed="rId9"/>
            <a:stretch/>
          </p:blipFill>
          <p:spPr>
            <a:xfrm>
              <a:off x="6156360" y="53006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23"/>
            <p:cNvSpPr/>
            <p:nvPr/>
          </p:nvSpPr>
          <p:spPr>
            <a:xfrm>
              <a:off x="7029000" y="5372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3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3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4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3" name="Object 12"/>
          <p:cNvGraphicFramePr/>
          <p:nvPr/>
        </p:nvGraphicFramePr>
        <p:xfrm>
          <a:off x="1011240" y="914400"/>
          <a:ext cx="7315200" cy="930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4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1240" y="914400"/>
                    <a:ext cx="73152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0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5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Object 31"/>
          <p:cNvGraphicFramePr/>
          <p:nvPr/>
        </p:nvGraphicFramePr>
        <p:xfrm>
          <a:off x="755640" y="1484280"/>
          <a:ext cx="7604280" cy="4732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55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1484280"/>
                    <a:ext cx="76042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6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6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6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9" name="Object 3"/>
          <p:cNvGraphicFramePr/>
          <p:nvPr/>
        </p:nvGraphicFramePr>
        <p:xfrm>
          <a:off x="1144440" y="981000"/>
          <a:ext cx="7315200" cy="2070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7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44440" y="981000"/>
                    <a:ext cx="731520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53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7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7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0" name="Object 3"/>
          <p:cNvGraphicFramePr/>
          <p:nvPr/>
        </p:nvGraphicFramePr>
        <p:xfrm>
          <a:off x="1144440" y="2646360"/>
          <a:ext cx="7266240" cy="2870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4440" y="2646360"/>
                    <a:ext cx="726624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4:09Z</dcterms:modified>
  <cp:revision>68</cp:revision>
  <dc:subject/>
  <dc:title>幻灯片 1</dc:title>
</cp:coreProperties>
</file>